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7.jpeg" ContentType="image/jpeg"/>
  <Override PartName="/ppt/media/image20.png" ContentType="image/pn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233-A95D-4AE5-98C2-CD4ECAD2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437-1749-4546-84BE-C85F84E0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5C6-5150-4C0C-B8DB-6C39F36C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08B-7E2D-4653-B88A-CE3BB089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A49F-61E0-4009-AC47-BDBA09F2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C1CA-58D4-4C17-94B2-2F621956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35F7-3971-443E-98A6-DB88415A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0197-6613-4C13-83D7-9583046A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286D-6885-454D-88E7-8B654E51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2948-FD07-4396-B6D2-32D74C9C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C8E2-8E98-4E05-AE04-2CEAC0F4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545-8ABC-49CA-A1F2-C5C13819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2CDC-3C11-4421-9035-203394C7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9DD1-2BDA-4E54-A4CF-35CBF716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1F65-D928-49B1-9FBD-A67C34A3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F08F-D964-4386-9C71-55AA00CF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E334-3D2B-4033-96DF-CBE93D21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221-D517-43ED-BA8B-3DCDEA97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BEE-EEE2-4CED-9E18-943AB0B0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FC8-FBA8-4B04-8F63-8FC0CF09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17E-F5E8-4975-B983-4F246472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8C8-B24A-4F8C-9B25-3822A528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337-BB92-44FF-91B0-A07F58C3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404-8C90-41BD-9707-E41DB621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8344-E155-4CB3-9566-7C7C96CABE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B834-DBD0-4422-8344-DA9C2A6D655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s://segue.middlebury.edu/repository/viewfile/polyphony-repository___repository_id/edu.middlebury.segue.sites_repository/polyphony-repository___asset_id/2665189/polyphony-repository___record_id/2665190/polyphony-repository___file_name/MrConservativeBarryGoldwater.jpg&amp;imgrefurl=https://segue.middlebury.edu/view/html/site/hist0368a-s09/node/2665096&amp;usg=__sS0Bbyrp4wKDcGL0mf3c0rofje0=&amp;h=316&amp;w=506&amp;sz=45&amp;hl=en&amp;start=9&amp;zoom=1&amp;itbs=1&amp;tbnid=jyQp-xs6KHiUnM:&amp;tbnh=82&amp;tbnw=131&amp;prev=/images%3Fq%3Dbarry%2Bgoldwater%26hl%3Den%26gbv%3D2%26tbs%3Disch:1&amp;ei=U9-ZTfaOA4LPgAeSnfW7CA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img.timeinc.net/time/photoessays/2007/jerry_falwell/02.jpg&amp;imgrefurl=http://osi-speaks.blogspot.com/2007_05_01_archive.html&amp;usg=__qWLNmcx5wGUQxlCXGzKrd18v9LQ=&amp;h=404&amp;w=611&amp;sz=71&amp;hl=en&amp;start=18&amp;zoom=1&amp;itbs=1&amp;tbnid=2INBLeQNpgjaqM:&amp;tbnh=90&amp;tbnw=136&amp;prev=/images%3Fq%3Dmoral%2Bmajority%26hl%3Den%26gbv%3D2%26tbs%3Disch:1&amp;ei=YeCZTaqkAo3EgAfa58nTCA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hehypertexts.com/Mysterious_Ways/Images/Ronald_Wilson_Reagan_Cowboy_Poet.gif&amp;imgrefurl=http://www.thehypertexts.com/ronald_reagan_poet_and_poetry_a_tribute_retrospective_and_memorial.htm&amp;usg=__UgVZqs2xgtEAagDAs_hoWIEKkV0=&amp;h=400&amp;w=310&amp;sz=49&amp;hl=en&amp;start=12&amp;zoom=1&amp;itbs=1&amp;tbnid=F9DD-3KP4IhHLM:&amp;tbnh=124&amp;tbnw=96&amp;prev=/images%3Fq%3Dronald%2Breagan%26hl%3Den%26gbv%3D2%26tbs%3Disch:1&amp;ei=oeCZTdurCZGtgQesxonYCA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com/imgres?imgurl=http://www.legendsofamerica.com/photos-trivia/RonaldReagan2.jpg&amp;imgrefurl=http://www.legendsofamerica.com/qu-celebritystupid6.html&amp;usg=__Bpk2escczXejo6Wd2XOH4h5D7i8=&amp;h=258&amp;w=280&amp;sz=20&amp;hl=en&amp;start=16&amp;zoom=1&amp;itbs=1&amp;tbnid=yH8jf4M9ENl55M:&amp;tbnh=105&amp;tbnw=114&amp;prev=/images%3Fq%3Dronald%2Breagan%26hl%3Den%26gbv%3D2%26tbs%3Disch:1&amp;ei=oeCZTdurCZGtgQesxonYCA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Conservative Movemen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pter 2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80s Social Concern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quired Immune Deficiency Syndro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bort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989 S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r on Dru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i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80s Social Concer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rban Cri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duca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odney K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ority Righ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om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frican America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a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thers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mericans on the Mo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eign Polic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khail Gorbachev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lasno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estroik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 Treaty (1988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991 (74 year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ris Yelts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ld War ov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rt II (199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Picture 8" descr="1101880104_400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yeltsin"/>
          <p:cNvPicPr/>
          <p:nvPr/>
        </p:nvPicPr>
        <p:blipFill>
          <a:blip r:embed="rId2"/>
          <a:stretch/>
        </p:blipFill>
        <p:spPr>
          <a:xfrm>
            <a:off x="4419720" y="3352680"/>
            <a:ext cx="3657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 194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2" name="Picture 7" descr="map-of-soviet-union"/>
          <p:cNvPicPr/>
          <p:nvPr/>
        </p:nvPicPr>
        <p:blipFill>
          <a:blip r:embed="rId1"/>
          <a:stretch/>
        </p:blipFill>
        <p:spPr>
          <a:xfrm>
            <a:off x="685800" y="1752480"/>
            <a:ext cx="7696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mer SU Tod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5" name="Picture 7" descr="Map2000"/>
          <p:cNvPicPr/>
          <p:nvPr/>
        </p:nvPicPr>
        <p:blipFill>
          <a:blip r:embed="rId1"/>
          <a:stretch/>
        </p:blipFill>
        <p:spPr>
          <a:xfrm>
            <a:off x="228600" y="1676520"/>
            <a:ext cx="891540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est of the “East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rman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la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ugoslav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sli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rb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roa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ananmen Squ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Picture 6" descr="yugoslavia"/>
          <p:cNvPicPr/>
          <p:nvPr/>
        </p:nvPicPr>
        <p:blipFill>
          <a:blip r:embed="rId1"/>
          <a:stretch/>
        </p:blipFill>
        <p:spPr>
          <a:xfrm>
            <a:off x="4343400" y="1523880"/>
            <a:ext cx="48006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ose Bel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icaragu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andinistas vs. Contr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land Amend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enad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ies to Cub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nam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riega and dru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ran- Contra Affa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banon and Reagan’s respon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at happened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gress gets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l. Oliver North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ther players involv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992 Bush pard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6" descr="Oliver North Freedom Alliance"/>
          <p:cNvPicPr/>
          <p:nvPr/>
        </p:nvPicPr>
        <p:blipFill>
          <a:blip r:embed="rId1"/>
          <a:stretch/>
        </p:blipFill>
        <p:spPr>
          <a:xfrm>
            <a:off x="4495680" y="1371600"/>
            <a:ext cx="441972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File:Admiral John Poindexter, official Navy photo, 1985.JPEG"/>
          <p:cNvPicPr/>
          <p:nvPr/>
        </p:nvPicPr>
        <p:blipFill>
          <a:blip r:embed="rId2"/>
          <a:stretch/>
        </p:blipFill>
        <p:spPr>
          <a:xfrm>
            <a:off x="4800600" y="38862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ian Gulf W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ran vs. Iraq (1980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uwait and Saudi Arab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eration Desert Stor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 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bruary 28, 199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uge public suppor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eople of Iraq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ervatis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rry Goldwa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nservative Movement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titlements/ Civil Rights Ac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“New” Righ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su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ffirmative Ac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onservative Coali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Moral Majority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Picture 7" descr="ANd9GcSv-HSrSHIMnMm1wgwHSSJ3DTkochk7xEMmfsA2NR5WJmPZtNDcQg9Gnf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371600"/>
            <a:ext cx="35812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ANd9GcSES3r3Cewsj_nT2D7w6dkKijglnSUna0WnDfowkv9cpyomFTsB44hxh8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962520"/>
            <a:ext cx="3657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Picture 7" descr="Persian Gulf War (Desert Storm)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mestic Polic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essio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d my lips, no new taxes”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992 approval rating 49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ection of 199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lliam Jefferson Clint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oral Map 199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6" name="Picture 7" descr="electoral-1996-s"/>
          <p:cNvPicPr/>
          <p:nvPr/>
        </p:nvPicPr>
        <p:blipFill>
          <a:blip r:embed="rId1"/>
          <a:stretch/>
        </p:blipFill>
        <p:spPr>
          <a:xfrm>
            <a:off x="380880" y="1752480"/>
            <a:ext cx="8458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nald Reaga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96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966- 197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976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ection of 19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g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ero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064040" y="297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Picture 1035" descr="ANd9GcRAPu7Tc7ZhPtRONXusLA44WzVcxYEBKLwk2sgwmQeGkMp0f2je3l4Et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7200"/>
            <a:ext cx="2819520" cy="2971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7" descr="ANd9GcRJ4LZNSjAlcFCAknxAzL7YOA0Ws9-tRPcgQGg3ZoYnDIXXfwjxxn6yw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505320"/>
            <a:ext cx="3276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oral Map 198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8098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electoral-1980-s"/>
          <p:cNvPicPr/>
          <p:nvPr/>
        </p:nvPicPr>
        <p:blipFill>
          <a:blip r:embed="rId2"/>
          <a:stretch/>
        </p:blipFill>
        <p:spPr>
          <a:xfrm>
            <a:off x="228600" y="1676520"/>
            <a:ext cx="8305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lici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aganomics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What is the goal(2)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pply Side Econom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rickle-Down Theory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rategic Defense Initiativ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cession (caus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covery (caus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regula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6" descr="Star-Wars1"/>
          <p:cNvPicPr/>
          <p:nvPr/>
        </p:nvPicPr>
        <p:blipFill>
          <a:blip r:embed="rId1"/>
          <a:stretch/>
        </p:blipFill>
        <p:spPr>
          <a:xfrm>
            <a:off x="4495680" y="1600200"/>
            <a:ext cx="434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dicial Shif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gan- 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W Bush- 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rence Thom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ita Hi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ot since FD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SC will weigh in on the “hot” topic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6" descr="ANd9GcRriO0PaGBD7jyUKXPqhxqd9D_Xesw9_srT5tsN6OyBbmaQSdjIOVDOQ_o"/>
          <p:cNvPicPr/>
          <p:nvPr/>
        </p:nvPicPr>
        <p:blipFill>
          <a:blip r:embed="rId1"/>
          <a:stretch/>
        </p:blipFill>
        <p:spPr>
          <a:xfrm>
            <a:off x="4648320" y="1447920"/>
            <a:ext cx="4114800" cy="2590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Supreme Court 2011"/>
          <p:cNvPicPr/>
          <p:nvPr/>
        </p:nvPicPr>
        <p:blipFill>
          <a:blip r:embed="rId2"/>
          <a:stretch/>
        </p:blipFill>
        <p:spPr>
          <a:xfrm>
            <a:off x="4648320" y="380988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84 and 198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98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ublicans and Democra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su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98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ublicans and Democra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s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oral Map 198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Picture 9" descr="1984map_cs_20081105134902"/>
          <p:cNvPicPr/>
          <p:nvPr/>
        </p:nvPicPr>
        <p:blipFill>
          <a:blip r:embed="rId1"/>
          <a:stretch/>
        </p:blipFill>
        <p:spPr>
          <a:xfrm>
            <a:off x="457200" y="1752480"/>
            <a:ext cx="8153280" cy="480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electoral-1984-s"/>
          <p:cNvPicPr/>
          <p:nvPr/>
        </p:nvPicPr>
        <p:blipFill>
          <a:blip r:embed="rId2"/>
          <a:stretch/>
        </p:blipFill>
        <p:spPr>
          <a:xfrm>
            <a:off x="228600" y="1676520"/>
            <a:ext cx="8534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ctoral Map 198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8" descr="electoral-1988-s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00:21:17Z</dcterms:created>
  <dc:creator>Giessg1</dc:creator>
  <dc:description/>
  <dc:language>en-US</dc:language>
  <cp:lastModifiedBy>tginter</cp:lastModifiedBy>
  <dcterms:modified xsi:type="dcterms:W3CDTF">2012-05-08T12:27:29Z</dcterms:modified>
  <cp:revision>9</cp:revision>
  <dc:subject/>
  <dc:title>A Conservative Movement </dc:title>
</cp:coreProperties>
</file>