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2.jpeg" ContentType="image/jpeg"/>
  <Override PartName="/ppt/media/image7.jpeg" ContentType="image/jpeg"/>
  <Override PartName="/ppt/media/image20.png" ContentType="image/pn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682C-647C-4E8F-BFA3-A5E414CB6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3C67-3346-4EB6-A8FB-2F6C7BC50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5FE3-8E25-45C6-85E3-85EA64F35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9241-4E19-4D7A-9BD0-A8A52D784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2FD83-72ED-4729-BFA1-D7C7970A2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E2789-53E8-4D8F-8101-EA53ACB06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F1731-BB96-4D70-ABCB-906908E2D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BE13C-D607-4294-8FE8-912215FF0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5D1E2-4990-4CA7-9248-20596221F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5EFB4-CBCB-41E4-9A44-E67D7AB3D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83BDC-2071-4452-9CD6-F2CFFBB55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924D-BD67-4CC7-8E74-69252BDCF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79D9B-FC57-4C24-BBBE-A69FB68EB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3E638-1161-44D6-9699-33CE2D761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720A1-404A-4811-AF09-84E342C6D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983BF-3661-43EE-B04F-B1F3DC7C0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6F271-2FC3-4792-8B4D-6E6D612F4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908A-C03B-46D7-977B-840965BFB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0F04-027C-44B2-8101-1A2913596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EBCE-B1A7-4CCB-9384-5D370ACB2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D598-A681-41C1-A844-2F0790115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9A8A-4C1E-4CC2-8EDF-0DB6C4AC5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6088-5C65-4109-9C8C-D31BF670C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4725-E05C-4DC7-9D4F-35F895E51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418320" y="420120"/>
                <a:ext cx="426816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Oval 6"/>
              <p:cNvSpPr/>
              <p:nvPr/>
            </p:nvSpPr>
            <p:spPr>
              <a:xfrm>
                <a:off x="837000" y="840600"/>
                <a:ext cx="3431160" cy="31946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1255320" y="1261080"/>
                <a:ext cx="2594520" cy="2354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1590120" y="1597680"/>
                <a:ext cx="1924560" cy="1681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3518640" y="3515400"/>
                <a:ext cx="3249000" cy="30268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Oval 12"/>
              <p:cNvSpPr/>
              <p:nvPr/>
            </p:nvSpPr>
            <p:spPr>
              <a:xfrm>
                <a:off x="3837240" y="3830760"/>
                <a:ext cx="2611800" cy="23961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Oval 13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Oval 14"/>
              <p:cNvSpPr/>
              <p:nvPr/>
            </p:nvSpPr>
            <p:spPr>
              <a:xfrm>
                <a:off x="4410720" y="4398480"/>
                <a:ext cx="1464840" cy="12610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Oval 16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Oval 17"/>
              <p:cNvSpPr/>
              <p:nvPr/>
            </p:nvSpPr>
            <p:spPr>
              <a:xfrm>
                <a:off x="4851360" y="506880"/>
                <a:ext cx="3630960" cy="34052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Oval 18"/>
              <p:cNvSpPr/>
              <p:nvPr/>
            </p:nvSpPr>
            <p:spPr>
              <a:xfrm>
                <a:off x="5207760" y="861480"/>
                <a:ext cx="291888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5563440" y="1216080"/>
                <a:ext cx="2207160" cy="19864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E3685-7320-414F-8BD1-B7A0A939AE4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Group 3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Group 4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Oval 5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"/>
                <p:cNvSpPr/>
                <p:nvPr/>
              </p:nvSpPr>
              <p:spPr>
                <a:xfrm>
                  <a:off x="418320" y="420120"/>
                  <a:ext cx="426816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Oval 7"/>
                <p:cNvSpPr/>
                <p:nvPr/>
              </p:nvSpPr>
              <p:spPr>
                <a:xfrm>
                  <a:off x="837000" y="840600"/>
                  <a:ext cx="3431160" cy="31946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Oval 8"/>
                <p:cNvSpPr/>
                <p:nvPr/>
              </p:nvSpPr>
              <p:spPr>
                <a:xfrm>
                  <a:off x="1255320" y="1261080"/>
                  <a:ext cx="2594520" cy="2354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Oval 9"/>
                <p:cNvSpPr/>
                <p:nvPr/>
              </p:nvSpPr>
              <p:spPr>
                <a:xfrm>
                  <a:off x="1590120" y="1597680"/>
                  <a:ext cx="1924560" cy="1681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Group 10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Oval 11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Oval 12"/>
                <p:cNvSpPr/>
                <p:nvPr/>
              </p:nvSpPr>
              <p:spPr>
                <a:xfrm>
                  <a:off x="3518640" y="3515400"/>
                  <a:ext cx="3249000" cy="30268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Oval 13"/>
                <p:cNvSpPr/>
                <p:nvPr/>
              </p:nvSpPr>
              <p:spPr>
                <a:xfrm>
                  <a:off x="3837240" y="3830760"/>
                  <a:ext cx="2611800" cy="23961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Oval 14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Oval 15"/>
                <p:cNvSpPr/>
                <p:nvPr/>
              </p:nvSpPr>
              <p:spPr>
                <a:xfrm>
                  <a:off x="4410720" y="4398480"/>
                  <a:ext cx="1464840" cy="12610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Group 16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Oval 17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Oval 18"/>
                <p:cNvSpPr/>
                <p:nvPr/>
              </p:nvSpPr>
              <p:spPr>
                <a:xfrm>
                  <a:off x="4851360" y="506880"/>
                  <a:ext cx="3630960" cy="34052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Oval 19"/>
                <p:cNvSpPr/>
                <p:nvPr/>
              </p:nvSpPr>
              <p:spPr>
                <a:xfrm>
                  <a:off x="5207760" y="861480"/>
                  <a:ext cx="291888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Oval 20"/>
                <p:cNvSpPr/>
                <p:nvPr/>
              </p:nvSpPr>
              <p:spPr>
                <a:xfrm>
                  <a:off x="5563440" y="1216080"/>
                  <a:ext cx="2207160" cy="19864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Oval 21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Line 22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" name="Line 23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" name="Line 24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01844-EF8B-4467-BF6A-C35B12F79509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s://segue.middlebury.edu/repository/viewfile/polyphony-repository___repository_id/edu.middlebury.segue.sites_repository/polyphony-repository___asset_id/2665189/polyphony-repository___record_id/2665190/polyphony-repository___file_name/MrConservativeBarryGoldwater.jpg&amp;imgrefurl=https://segue.middlebury.edu/view/html/site/hist0368a-s09/node/2665096&amp;usg=__sS0Bbyrp4wKDcGL0mf3c0rofje0=&amp;h=316&amp;w=506&amp;sz=45&amp;hl=en&amp;start=9&amp;zoom=1&amp;itbs=1&amp;tbnid=jyQp-xs6KHiUnM:&amp;tbnh=82&amp;tbnw=131&amp;prev=/images%3Fq%3Dbarry%2Bgoldwater%26hl%3Den%26gbv%3D2%26tbs%3Disch:1&amp;ei=U9-ZTfaOA4LPgAeSnfW7CA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google.com/imgres?imgurl=http://img.timeinc.net/time/photoessays/2007/jerry_falwell/02.jpg&amp;imgrefurl=http://osi-speaks.blogspot.com/2007_05_01_archive.html&amp;usg=__qWLNmcx5wGUQxlCXGzKrd18v9LQ=&amp;h=404&amp;w=611&amp;sz=71&amp;hl=en&amp;start=18&amp;zoom=1&amp;itbs=1&amp;tbnid=2INBLeQNpgjaqM:&amp;tbnh=90&amp;tbnw=136&amp;prev=/images%3Fq%3Dmoral%2Bmajority%26hl%3Den%26gbv%3D2%26tbs%3Disch:1&amp;ei=YeCZTaqkAo3EgAfa58nTCA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thehypertexts.com/Mysterious_Ways/Images/Ronald_Wilson_Reagan_Cowboy_Poet.gif&amp;imgrefurl=http://www.thehypertexts.com/ronald_reagan_poet_and_poetry_a_tribute_retrospective_and_memorial.htm&amp;usg=__UgVZqs2xgtEAagDAs_hoWIEKkV0=&amp;h=400&amp;w=310&amp;sz=49&amp;hl=en&amp;start=12&amp;zoom=1&amp;itbs=1&amp;tbnid=F9DD-3KP4IhHLM:&amp;tbnh=124&amp;tbnw=96&amp;prev=/images%3Fq%3Dronald%2Breagan%26hl%3Den%26gbv%3D2%26tbs%3Disch:1&amp;ei=oeCZTdurCZGtgQesxonYCA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google.com/imgres?imgurl=http://www.legendsofamerica.com/photos-trivia/RonaldReagan2.jpg&amp;imgrefurl=http://www.legendsofamerica.com/qu-celebritystupid6.html&amp;usg=__Bpk2escczXejo6Wd2XOH4h5D7i8=&amp;h=258&amp;w=280&amp;sz=20&amp;hl=en&amp;start=16&amp;zoom=1&amp;itbs=1&amp;tbnid=yH8jf4M9ENl55M:&amp;tbnh=105&amp;tbnw=114&amp;prev=/images%3Fq%3Dronald%2Breagan%26hl%3Den%26gbv%3D2%26tbs%3Disch:1&amp;ei=oeCZTdurCZGtgQesxonYCA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Conservative Movement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hapter 25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1980s Social Concern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cquired Immune Deficiency Syndrom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bortion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1989 S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ar on Drug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duc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ies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1980s Social Concer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rban Crisi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ducation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vert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odney King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inority Righ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Wom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frican American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Gay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thers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mericans on the Mov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oreign Polic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ikhail Gorbachev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Glasnos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erestroik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F Treaty (1988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1991 (74 years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oris Yeltsi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old War ov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tart II (1993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8" name="Picture 8" descr="1101880104_400"/>
          <p:cNvPicPr/>
          <p:nvPr/>
        </p:nvPicPr>
        <p:blipFill>
          <a:blip r:embed="rId1"/>
          <a:stretch/>
        </p:blipFill>
        <p:spPr>
          <a:xfrm>
            <a:off x="6324480" y="0"/>
            <a:ext cx="2819520" cy="32767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0" descr="yeltsin"/>
          <p:cNvPicPr/>
          <p:nvPr/>
        </p:nvPicPr>
        <p:blipFill>
          <a:blip r:embed="rId2"/>
          <a:stretch/>
        </p:blipFill>
        <p:spPr>
          <a:xfrm>
            <a:off x="4419720" y="3352680"/>
            <a:ext cx="365760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U 1945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2" name="Picture 7" descr="map-of-soviet-union"/>
          <p:cNvPicPr/>
          <p:nvPr/>
        </p:nvPicPr>
        <p:blipFill>
          <a:blip r:embed="rId1"/>
          <a:stretch/>
        </p:blipFill>
        <p:spPr>
          <a:xfrm>
            <a:off x="685800" y="1752480"/>
            <a:ext cx="76960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ormer SU Tod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5" name="Picture 7" descr="Map2000"/>
          <p:cNvPicPr/>
          <p:nvPr/>
        </p:nvPicPr>
        <p:blipFill>
          <a:blip r:embed="rId1"/>
          <a:stretch/>
        </p:blipFill>
        <p:spPr>
          <a:xfrm>
            <a:off x="228600" y="1676520"/>
            <a:ext cx="8915400" cy="48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Rest of the “East”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Germany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olan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Yugoslavi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uslim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erb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roat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hin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iananmen Squa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9" name="Picture 6" descr="yugoslavia"/>
          <p:cNvPicPr/>
          <p:nvPr/>
        </p:nvPicPr>
        <p:blipFill>
          <a:blip r:embed="rId1"/>
          <a:stretch/>
        </p:blipFill>
        <p:spPr>
          <a:xfrm>
            <a:off x="4343400" y="1523880"/>
            <a:ext cx="48006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ose Below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icaragu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andinistas vs. Contra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oland Amendmen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renad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ies to Cuba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anam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oriega and drug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ran- Contra Affai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ebanon and Reagan’s respons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What happened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ngress gets involv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ol. Oliver North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ther players involve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1992 Bush pardo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5" name="Picture 6" descr="Oliver North Freedom Alliance"/>
          <p:cNvPicPr/>
          <p:nvPr/>
        </p:nvPicPr>
        <p:blipFill>
          <a:blip r:embed="rId1"/>
          <a:stretch/>
        </p:blipFill>
        <p:spPr>
          <a:xfrm>
            <a:off x="4495680" y="1371600"/>
            <a:ext cx="4419720" cy="25909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8" descr="File:Admiral John Poindexter, official Navy photo, 1985.JPEG"/>
          <p:cNvPicPr/>
          <p:nvPr/>
        </p:nvPicPr>
        <p:blipFill>
          <a:blip r:embed="rId2"/>
          <a:stretch/>
        </p:blipFill>
        <p:spPr>
          <a:xfrm>
            <a:off x="4800600" y="3886200"/>
            <a:ext cx="41148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ersian Gulf Wa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ran vs. Iraq (1980s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Kuwait and Saudi Arabi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peration Desert Stor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N Oper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ebruary 28, 1991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uge public suppor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people of Iraq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servatism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rry Goldwat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 Conservative Movement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Entitlements/ Civil Rights Act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 “New” Righ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ssue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Affirmative Actio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 Conservative Coalition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The Moral Majority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8" name="Picture 7" descr="ANd9GcSv-HSrSHIMnMm1wgwHSSJ3DTkochk7xEMmfsA2NR5WJmPZtNDcQg9GnfI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1371600"/>
            <a:ext cx="3581280" cy="2438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ANd9GcSES3r3Cewsj_nT2D7w6dkKijglnSUna0WnDfowkv9cpyomFTsB44hxh8M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14400" y="3962520"/>
            <a:ext cx="36576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1" name="Picture 7" descr="Persian Gulf War (Desert Storm)"/>
          <p:cNvPicPr/>
          <p:nvPr/>
        </p:nvPicPr>
        <p:blipFill>
          <a:blip r:embed="rId1"/>
          <a:stretch/>
        </p:blipFill>
        <p:spPr>
          <a:xfrm>
            <a:off x="457200" y="304920"/>
            <a:ext cx="81532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omestic Polici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cession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ad my lips, no new taxes”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1992 approval rating 49%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lection of 1992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illiam Jefferson Clint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lectoral Map 199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6" name="Picture 7" descr="electoral-1996-s"/>
          <p:cNvPicPr/>
          <p:nvPr/>
        </p:nvPicPr>
        <p:blipFill>
          <a:blip r:embed="rId1"/>
          <a:stretch/>
        </p:blipFill>
        <p:spPr>
          <a:xfrm>
            <a:off x="380880" y="1752480"/>
            <a:ext cx="84582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onald Reagan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1964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1966- 1974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1976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lection of 198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ongre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Hero!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4064040" y="297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3" name="Picture 1035" descr="ANd9GcRAPu7Tc7ZhPtRONXusLA44WzVcxYEBKLwk2sgwmQeGkMp0f2je3l4EtE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57200"/>
            <a:ext cx="2819520" cy="29718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37" descr="ANd9GcRJ4LZNSjAlcFCAknxAzL7YOA0Ws9-tRPcgQGg3ZoYnDIXXfwjxxn6yww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371600" y="3505320"/>
            <a:ext cx="32767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lectoral Map 198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38098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electoral-1980-s"/>
          <p:cNvPicPr/>
          <p:nvPr/>
        </p:nvPicPr>
        <p:blipFill>
          <a:blip r:embed="rId2"/>
          <a:stretch/>
        </p:blipFill>
        <p:spPr>
          <a:xfrm>
            <a:off x="228600" y="1676520"/>
            <a:ext cx="83059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olicie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eaganomics”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What is the goal(2)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upply Side Economic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Trickle-Down Theory”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trategic Defense Initiative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ecession (causes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ecovery (causes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eregulation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2" name="Picture 6" descr="Star-Wars1"/>
          <p:cNvPicPr/>
          <p:nvPr/>
        </p:nvPicPr>
        <p:blipFill>
          <a:blip r:embed="rId1"/>
          <a:stretch/>
        </p:blipFill>
        <p:spPr>
          <a:xfrm>
            <a:off x="4495680" y="1600200"/>
            <a:ext cx="43434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Judicial Shif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agan- 4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W Bush- 2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arence Thoma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nita Hil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ot since FD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is SC will weigh in on the “hot” topics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5" name="Picture 6" descr="ANd9GcRriO0PaGBD7jyUKXPqhxqd9D_Xesw9_srT5tsN6OyBbmaQSdjIOVDOQ_o"/>
          <p:cNvPicPr/>
          <p:nvPr/>
        </p:nvPicPr>
        <p:blipFill>
          <a:blip r:embed="rId1"/>
          <a:stretch/>
        </p:blipFill>
        <p:spPr>
          <a:xfrm>
            <a:off x="4648320" y="1447920"/>
            <a:ext cx="4114800" cy="25905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Supreme Court 2011"/>
          <p:cNvPicPr/>
          <p:nvPr/>
        </p:nvPicPr>
        <p:blipFill>
          <a:blip r:embed="rId2"/>
          <a:stretch/>
        </p:blipFill>
        <p:spPr>
          <a:xfrm>
            <a:off x="4648320" y="3809880"/>
            <a:ext cx="44956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1984 and 1988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1984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publicans and Democra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ssues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1988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publicans and Democra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ssu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lectoral Map 1984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1" name="Picture 9" descr="1984map_cs_20081105134902"/>
          <p:cNvPicPr/>
          <p:nvPr/>
        </p:nvPicPr>
        <p:blipFill>
          <a:blip r:embed="rId1"/>
          <a:stretch/>
        </p:blipFill>
        <p:spPr>
          <a:xfrm>
            <a:off x="457200" y="1752480"/>
            <a:ext cx="8153280" cy="48006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1" descr="electoral-1984-s"/>
          <p:cNvPicPr/>
          <p:nvPr/>
        </p:nvPicPr>
        <p:blipFill>
          <a:blip r:embed="rId2"/>
          <a:stretch/>
        </p:blipFill>
        <p:spPr>
          <a:xfrm>
            <a:off x="228600" y="1676520"/>
            <a:ext cx="85345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lectoral Map 1988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5" name="Picture 8" descr="electoral-1988-s"/>
          <p:cNvPicPr/>
          <p:nvPr/>
        </p:nvPicPr>
        <p:blipFill>
          <a:blip r:embed="rId1"/>
          <a:stretch/>
        </p:blipFill>
        <p:spPr>
          <a:xfrm>
            <a:off x="380880" y="1752480"/>
            <a:ext cx="82296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9T00:21:17Z</dcterms:created>
  <dc:creator>Giessg1</dc:creator>
  <dc:description/>
  <dc:language>en-US</dc:language>
  <cp:lastModifiedBy>tginter</cp:lastModifiedBy>
  <dcterms:modified xsi:type="dcterms:W3CDTF">2012-05-08T12:27:29Z</dcterms:modified>
  <cp:revision>9</cp:revision>
  <dc:subject/>
  <dc:title>A Conservative Movement </dc:title>
</cp:coreProperties>
</file>