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7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17E-ABF8-4CEF-8285-35ED7A9D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1E9-B958-4AA3-81DE-F0224C6C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B90A-003F-4041-B994-7238AB9F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13E-2477-44CB-8B98-139095F4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B334-6C4B-4DCC-9FC9-9B9007ED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7913-0FE4-4212-A005-A9E584B5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0F35-CAAA-495E-899C-509A0A0F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C28-6A9C-4F32-9135-B583C25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895F-ADF0-4179-BAC4-734BEED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D9F5-632E-40C9-B3E2-D1C7ABA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6EDA-558F-4A48-982B-ACEBAFC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F1B-B180-40DC-9D08-3D30DCAB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8F19-673B-4552-9FBB-38FEBDC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B027-DF58-451C-9EDD-E8AA5D1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FC0B-6476-4718-9FB8-8CC87297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79FB-5BD7-4236-917E-56539FD4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3D0-3FCD-4F43-BD7B-A52A63AF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B54-2B83-4A1C-A91F-9A2F47E3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934-BB5F-45EB-BFF7-377F8BC8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CD8-9E48-4393-8C03-FC2FD993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EF1-EE62-4C22-B17B-E9627634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6312-F931-45A4-B0A7-24C3B3C6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0FD-BF67-44EE-8313-BC5241E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474-2F29-4FD8-AC65-BA506BCC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D35-88E1-4D02-85B6-D643B5725E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A3B1-61B8-40A0-AC07-92849769867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s://segue.middlebury.edu/repository/viewfile/polyphony-repository___repository_id/edu.middlebury.segue.sites_repository/polyphony-repository___asset_id/2665189/polyphony-repository___record_id/2665190/polyphony-repository___file_name/MrConservativeBarryGoldwater.jpg&amp;imgrefurl=https://segue.middlebury.edu/view/html/site/hist0368a-s09/node/2665096&amp;usg=__sS0Bbyrp4wKDcGL0mf3c0rofje0=&amp;h=316&amp;w=506&amp;sz=45&amp;hl=en&amp;start=9&amp;zoom=1&amp;itbs=1&amp;tbnid=jyQp-xs6KHiUnM:&amp;tbnh=82&amp;tbnw=131&amp;prev=/images%3Fq%3Dbarry%2Bgoldwater%26hl%3Den%26gbv%3D2%26tbs%3Disch:1&amp;ei=U9-ZTfaOA4LPgAeSnfW7CA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img.timeinc.net/time/photoessays/2007/jerry_falwell/02.jpg&amp;imgrefurl=http://osi-speaks.blogspot.com/2007_05_01_archive.html&amp;usg=__qWLNmcx5wGUQxlCXGzKrd18v9LQ=&amp;h=404&amp;w=611&amp;sz=71&amp;hl=en&amp;start=18&amp;zoom=1&amp;itbs=1&amp;tbnid=2INBLeQNpgjaqM:&amp;tbnh=90&amp;tbnw=136&amp;prev=/images%3Fq%3Dmoral%2Bmajority%26hl%3Den%26gbv%3D2%26tbs%3Disch:1&amp;ei=YeCZTaqkAo3EgAfa58nTCA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hehypertexts.com/Mysterious_Ways/Images/Ronald_Wilson_Reagan_Cowboy_Poet.gif&amp;imgrefurl=http://www.thehypertexts.com/ronald_reagan_poet_and_poetry_a_tribute_retrospective_and_memorial.htm&amp;usg=__UgVZqs2xgtEAagDAs_hoWIEKkV0=&amp;h=400&amp;w=310&amp;sz=49&amp;hl=en&amp;start=12&amp;zoom=1&amp;itbs=1&amp;tbnid=F9DD-3KP4IhHLM:&amp;tbnh=124&amp;tbnw=96&amp;prev=/images%3Fq%3Dronald%2Breagan%26hl%3Den%26gbv%3D2%26tbs%3Disch:1&amp;ei=oeCZTdurCZGtgQesxonYC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legendsofamerica.com/photos-trivia/RonaldReagan2.jpg&amp;imgrefurl=http://www.legendsofamerica.com/qu-celebritystupid6.html&amp;usg=__Bpk2escczXejo6Wd2XOH4h5D7i8=&amp;h=258&amp;w=280&amp;sz=20&amp;hl=en&amp;start=16&amp;zoom=1&amp;itbs=1&amp;tbnid=yH8jf4M9ENl55M:&amp;tbnh=105&amp;tbnw=114&amp;prev=/images%3Fq%3Dronald%2Breagan%26hl%3Den%26gbv%3D2%26tbs%3Disch:1&amp;ei=oeCZTdurCZGtgQesxonYCA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nservative Moveme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pter 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s Social Concern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quired Immune Deficiency Syndr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or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89 S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 on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i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s Soci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rban Cri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dney 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ority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m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frican Americ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s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ericans on the Mo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asn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estro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 Treaty (1988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91 (74 yea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is Yelts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d War o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rt II (199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8" descr="1101880104_400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yeltsin"/>
          <p:cNvPicPr/>
          <p:nvPr/>
        </p:nvPicPr>
        <p:blipFill>
          <a:blip r:embed="rId2"/>
          <a:stretch/>
        </p:blipFill>
        <p:spPr>
          <a:xfrm>
            <a:off x="4419720" y="3352680"/>
            <a:ext cx="3657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 194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7" descr="map-of-soviet-union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er SU To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Picture 7" descr="Map2000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st of the “East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man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ugoslav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li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b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oa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ananmen Squ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yugoslavia"/>
          <p:cNvPicPr/>
          <p:nvPr/>
        </p:nvPicPr>
        <p:blipFill>
          <a:blip r:embed="rId1"/>
          <a:stretch/>
        </p:blipFill>
        <p:spPr>
          <a:xfrm>
            <a:off x="4343400" y="1523880"/>
            <a:ext cx="4800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ose Be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icaragu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dinistas vs. Contr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land Amend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ena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es to Cub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a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riega and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ran- Contra Affa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banon and Reagan’s respon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happen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gress gets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. Oliver North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 players involv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92 Bush pard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6" descr="Oliver North Freedom Alliance"/>
          <p:cNvPicPr/>
          <p:nvPr/>
        </p:nvPicPr>
        <p:blipFill>
          <a:blip r:embed="rId1"/>
          <a:stretch/>
        </p:blipFill>
        <p:spPr>
          <a:xfrm>
            <a:off x="4495680" y="137160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File:Admiral John Poindexter, official Navy photo, 1985.JPEG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ian Gulf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ran vs. Iraq (1980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uwait and Saudi Arab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ration Desert Sto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 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bruary 28, 199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uge public sup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eople of Iraq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ervatis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ry Goldwa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servative Movem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titlements/ Civil Rights Ac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“New” Righ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ffirmative A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servative Coali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Moral Majorit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7" descr="ANd9GcSv-HSrSHIMnMm1wgwHSSJ3DTkochk7xEMmfsA2NR5WJmPZtNDcQg9Gnf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35812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ANd9GcSES3r3Cewsj_nT2D7w6dkKijglnSUna0WnDfowkv9cpyomFTsB44hxh8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Picture 7" descr="Persian Gulf War (Desert Storm)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mestic Polic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s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my lips, no new taxes”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92 approval rating 49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ection of 199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iam Jefferson Clin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9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7" descr="electoral-1996-s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nald Reaga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6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66- 197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ion of 19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r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06404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1035" descr="ANd9GcRAPu7Tc7ZhPtRONXusLA44WzVcxYEBKLwk2sgwmQeGkMp0f2je3l4Et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7" descr="ANd9GcRJ4LZNSjAlcFCAknxAzL7YOA0Ws9-tRPcgQGg3ZoYnDIXXfwjxxn6y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50532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8098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lectoral-1980-s"/>
          <p:cNvPicPr/>
          <p:nvPr/>
        </p:nvPicPr>
        <p:blipFill>
          <a:blip r:embed="rId2"/>
          <a:stretch/>
        </p:blipFill>
        <p:spPr>
          <a:xfrm>
            <a:off x="228600" y="1676520"/>
            <a:ext cx="8305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c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ganomic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goal(2)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ply Side Econom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ickle-Down Theory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rategic Defense Initiativ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ession (cau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overy (cau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regul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6" descr="Star-Wars1"/>
          <p:cNvPicPr/>
          <p:nvPr/>
        </p:nvPicPr>
        <p:blipFill>
          <a:blip r:embed="rId1"/>
          <a:stretch/>
        </p:blipFill>
        <p:spPr>
          <a:xfrm>
            <a:off x="4495680" y="160020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icial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gan-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W Bush-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rence Thom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ita H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since FD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SC will weigh in on the “hot” topic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6" descr="ANd9GcRriO0PaGBD7jyUKXPqhxqd9D_Xesw9_srT5tsN6OyBbmaQSdjIOVDOQ_o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259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upreme Court 2011"/>
          <p:cNvPicPr/>
          <p:nvPr/>
        </p:nvPicPr>
        <p:blipFill>
          <a:blip r:embed="rId2"/>
          <a:stretch/>
        </p:blipFill>
        <p:spPr>
          <a:xfrm>
            <a:off x="4648320" y="38098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4 and 19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8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s and Democra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8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s and Democra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9" descr="1984map_cs_20081105134902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80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electoral-1984-s"/>
          <p:cNvPicPr/>
          <p:nvPr/>
        </p:nvPicPr>
        <p:blipFill>
          <a:blip r:embed="rId2"/>
          <a:stretch/>
        </p:blipFill>
        <p:spPr>
          <a:xfrm>
            <a:off x="228600" y="1676520"/>
            <a:ext cx="853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8" descr="electoral-1988-s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0:21:17Z</dcterms:created>
  <dc:creator>Giessg1</dc:creator>
  <dc:description/>
  <dc:language>en-US</dc:language>
  <cp:lastModifiedBy>tginter</cp:lastModifiedBy>
  <dcterms:modified xsi:type="dcterms:W3CDTF">2012-05-08T12:27:29Z</dcterms:modified>
  <cp:revision>9</cp:revision>
  <dc:subject/>
  <dc:title>A Conservative Movement </dc:title>
</cp:coreProperties>
</file>